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8946-83A6-41D4-864D-FDA46D8A4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6C9E-C0EC-4665-AFDB-3F7D1016D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6F87-E4A4-4379-94EC-B7AE59C2D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1858-EE7E-43EC-B222-EF74B4F96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3EDE5-932A-4922-8EDF-82C4972E09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52841-E722-4377-BB3F-9F24744A26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8F276-06C3-4E44-A11B-1DFEF6422F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ACE89-D305-485C-9BF4-9E9F1B7295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B9744-3940-4A5B-B5B9-DE8B475675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AC1BF-C74D-4209-9649-6506CEC80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73EBF-10BA-49B2-9114-2E3032454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40E4-7C66-4893-A1CB-98EBE5E7A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DBA80-0E44-4F70-8EAA-6984854938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8AD1F-7AD9-4F08-AA3B-DAF85FD711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986A6-CA09-43AB-828F-B3DFAD7393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75A93-226D-4245-A4A2-987038353C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E5742-002A-45E6-AE0B-6F08EC778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C828-8D6E-4018-82BC-0814311B1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E8DB-1E57-40E2-9385-C2F40CE33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997F-C818-452F-8C63-DEBBF1189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CB8E-0481-4D68-9A9D-773AEDDC7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FF1B-C5FF-427A-8838-726F3D754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8DA0-B6B5-4F37-82FB-70B0BA891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3C5A-3EDF-4728-B0F1-C9EE33B21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5C72FC4-DBA7-40BB-94E1-B8513A9F1C0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DFC96E9-2535-48C6-A000-2411FE3443E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24E3912-7A84-4720-BD67-D776115DA81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ED160D4-A572-4625-9DEC-5E8EBF549A9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9D4A-6012-430B-8F64-2FB0336EB8AD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4-29T15:26:08Z</dcterms:modified>
  <cp:revision>340</cp:revision>
  <dc:subject/>
  <dc:title>No Slide Title</dc:title>
</cp:coreProperties>
</file>